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279-C076-4DDA-AD66-352AE7A9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B6B-99C2-4063-990E-1202E2D2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26F-9BB5-41C0-B7F1-4E35BC2E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6D5-B97C-46A4-8E0F-C201AB9D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D68-B523-470A-80AF-67E0FECD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719-A65D-45DF-A954-D50DA546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F64-B3AE-492B-B4A2-49ED8C58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D86-70B4-43FB-935A-11A3B92D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31C-2949-4EEA-A05C-4993E5AE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DB4-D98C-470A-84DD-40448F2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E22-51D4-4560-9A33-814789BC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592-76D9-4919-A7C7-AC1868A8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 algn="just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A378-8DAD-46BA-B0A9-47D798E91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asting Views of Dzong-ka-Ba and Shay-rap-gyel-ts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iation vs. Synthes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iating Schools by way of Delineating Ten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thesizing Schools by way of Comparing Ten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ation of Ten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ddle Way Consequence Schoo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 Middle Way Schoo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ermining Sources that are Definitive and Sources that Require Interpret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el of Good Differentia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asting Interpretations of the Three Natures and Three Non-n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Powered Natures: Basis of Emptiness vs. Object of Neg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is of Emptin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on and Charact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racter and Mode of Exis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 and Obje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 of Nega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on and Emptine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tiness and Mode of Existenc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 and Objec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utational Natures: Existent vs. Non-exist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xistence of Imputational Na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Non-Existence of Imputational Natu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roughly Established Natures: Negation and Affirm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irming Negativ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-affirming Negativ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gating Affirma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-negating Affirma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8:16:08Z</dcterms:created>
  <dc:creator>ITS</dc:creator>
  <dc:description/>
  <dc:language>en-US</dc:language>
  <cp:lastModifiedBy>ITS</cp:lastModifiedBy>
  <dcterms:modified xsi:type="dcterms:W3CDTF">2000-02-21T22:23:24Z</dcterms:modified>
  <cp:revision>2</cp:revision>
  <dc:subject/>
  <dc:title>Contrasting Views of Dzong-ka-Ba and Shay-rap-gyel-tsen</dc:title>
</cp:coreProperties>
</file>